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379-CADC-4B0A-AF91-2FE42189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5C1-8994-4B5D-BFA1-68BAF4CB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7A4-CA26-40F6-811E-B482D842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5A1-173F-4B4A-ABB7-EE6BD3D5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5841-354A-4FCC-A0CA-8078F265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F1D0-C8BC-4162-878D-95FEB069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B51D-6601-4152-BFCD-8FB72A4D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8860-0368-4DB0-82F0-6003ADC8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ADEC-646B-4945-B959-5EA74FD9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098A-5046-402A-9171-741CE623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09D5-6858-45ED-81AD-56E4780A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916-688B-4C49-8B98-D9C8F867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D7FE-F966-49F3-8558-1A9AB7A9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B672-EBFE-4B72-9BCF-3B3ECE1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E1DA-8281-4D91-9AFF-6B854F6A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048D-760E-4C10-9CAA-A5548AC0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A156-C718-4EA7-9395-C5850891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440-8BBD-4AA8-9849-12B9A2B7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E21-CB0B-4F73-9809-A3C84C9A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DB9-1608-4350-AFE9-25BA8D68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215-428A-405D-AE96-58BE8EFF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49A-6429-48DE-9E7D-7ACE7629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CEF-6827-4D63-A1EF-58DD1EB4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930-09BF-4AD5-A7DC-D9DB6F05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5A5E-E116-4732-97B3-59439DB94F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F115-4E6E-4B96-BADC-959ED22A25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81080" y="1905120"/>
            <a:ext cx="5410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een Light"/>
              </a:rPr>
              <a:t>What is a Planet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een Light"/>
              <a:ea typeface="Teen Light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97204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en Light"/>
              </a:rPr>
              <a:t>By Bailey Yancey, Lakyn Kearns, and Mary Grace DeSilv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-152280" y="-122400"/>
          <a:ext cx="9296280" cy="698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-122400"/>
                    <a:ext cx="9296280" cy="69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nets ar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73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cording to our requirements, the following objects in space are planet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1523880"/>
            <a:ext cx="358164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rregular objects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aume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kema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r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66880" y="12193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ff"/>
                </a:solidFill>
                <a:latin typeface="Arial"/>
              </a:rPr>
              <a:t>Thank you for watching! :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Planet i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rder for an object out in space to qualify as a planet, it must meet the following requiremen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as to revolve around the 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avity at the equator must be 0.3 or ab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rbital period must be below 100 year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rbital eccentricity must be below 0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’t be rounded by it’s own gr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as to be a spherical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f it does not meet these requirements, the object is an Irregular Planet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19240" y="149400"/>
          <a:ext cx="8924760" cy="67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49400"/>
                    <a:ext cx="8924760" cy="67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63440"/>
          <a:ext cx="8915400" cy="670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3440"/>
                    <a:ext cx="891540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-304920" y="-474840"/>
          <a:ext cx="9753840" cy="733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-474840"/>
                    <a:ext cx="9753840" cy="733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-792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92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-152280" y="-7920"/>
          <a:ext cx="9296280" cy="709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-7920"/>
                    <a:ext cx="9296280" cy="70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54:08Z</dcterms:created>
  <dc:creator>ASD</dc:creator>
  <dc:description/>
  <dc:language>en-US</dc:language>
  <cp:lastModifiedBy>ASD</cp:lastModifiedBy>
  <dcterms:modified xsi:type="dcterms:W3CDTF">2011-02-16T21:20:45Z</dcterms:modified>
  <cp:revision>14</cp:revision>
  <dc:subject/>
  <dc:title>Slide 1</dc:title>
</cp:coreProperties>
</file>